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954838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34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030920"/>
            <a:ext cx="834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0309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5920" y="40309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31160" y="15235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3200" y="15235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0309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31160" y="40309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3200" y="40309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09120" y="228240"/>
            <a:ext cx="833436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9480" y="40309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85920" y="40309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4030920"/>
            <a:ext cx="834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34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09480" y="4030920"/>
            <a:ext cx="834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40309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85920" y="40309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31160" y="15235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3200" y="15235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09480" y="40309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431160" y="40309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3200" y="40309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120" y="228240"/>
            <a:ext cx="833436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0309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5920" y="40309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030920"/>
            <a:ext cx="834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27"/>
          <p:cNvSpPr/>
          <p:nvPr/>
        </p:nvSpPr>
        <p:spPr>
          <a:xfrm>
            <a:off x="533520" y="6324480"/>
            <a:ext cx="3733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vy Hands: An Introduction to the Crime of Intimate and Family Violence, 4</a:t>
            </a:r>
            <a:r>
              <a:rPr b="1" i="1" lang="en-US" sz="1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d.,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Gosseli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Text Box 28"/>
          <p:cNvSpPr/>
          <p:nvPr/>
        </p:nvSpPr>
        <p:spPr>
          <a:xfrm>
            <a:off x="5257800" y="6384960"/>
            <a:ext cx="380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© 2010 Pearson Higher Education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pper Saddle River, NJ 07458. • All Rights Reserved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29"/>
          <p:cNvSpPr/>
          <p:nvPr/>
        </p:nvSpPr>
        <p:spPr>
          <a:xfrm>
            <a:off x="43434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D373E-386B-4728-B9F7-2DC377A025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" name="Picture 30" descr="bluegradientbar"/>
          <p:cNvPicPr/>
          <p:nvPr/>
        </p:nvPicPr>
        <p:blipFill>
          <a:blip r:embed="rId2"/>
          <a:stretch/>
        </p:blipFill>
        <p:spPr>
          <a:xfrm>
            <a:off x="0" y="0"/>
            <a:ext cx="5335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5" descr=""/>
          <p:cNvPicPr/>
          <p:nvPr/>
        </p:nvPicPr>
        <p:blipFill>
          <a:blip r:embed="rId3"/>
          <a:stretch/>
        </p:blipFill>
        <p:spPr>
          <a:xfrm>
            <a:off x="4038480" y="6248520"/>
            <a:ext cx="1143000" cy="438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16002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hapter Five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Investigating Child Abuse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962160" y="7086240"/>
            <a:ext cx="40129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Family Abduction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09480" y="990720"/>
            <a:ext cx="83455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st common kind of abduction is parental child abdu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amily abduction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taking, keeping, or concealing of a child or children by a parent, other family member, or person acting on behalf of the parent or family member, that deprives another individual of his or her custody or visitation r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jority of kidnappings are family kidnapp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mily abduction is a serious problem both in scope and its eff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Missing Children’s Assistance Act, 1984 as Title IV of the Juvenile Justice and Delinquency Prevention Act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09480" y="1828800"/>
            <a:ext cx="8345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gress mandated a national response to the problem of missing and exploited children to be coordinated by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ffice of Juvenile Justice and Delinquency Preven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JJDP) along with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ational Center for Missing and Exploited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e National Center for Prosecution of Childr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ajor source of information on parental kidnapp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estimated 262,000 children are abducted annu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most 80 percent are kidnapped by a parent or family me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Munchausen by Proxy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3455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t involves both physical abuse and medical neglect against a chil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offender suffers from a psychological maltreatment categorized as factitious disorders. 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DSM IV-T-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t is characterized by repeated unnecessary medical tests and procedures, which are demanded by a caretaker and cause physical injury to the chil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mon methods of fabricating illness ar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ying, poisoning either with drugs or other substances, suffocation, specimen tampering, chart  falsification, injection of urine or fecal matter into the child, laxatives, excessive medica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 estimated 9 to 31 percent of victims die as a result of the abus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pproximately 98 percent of the perpetrators are wome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ictims equally divided male and female childre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Shaken Baby Syndrome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09480" y="990360"/>
            <a:ext cx="8345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cal term used to describe the violent shaking of a child and injuries that can occu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 relatively new classification of death or injury to infants, and the number of child victims is uncert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 to 12 percent of all deaths due to abuse and neglect are attributable to the shaken baby syndr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ren from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ir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at the highest risk because their neck muscles are underdeveloped and their brain tissue is frag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ween 1,000 to 3,000 children are diagnosed every ye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out 100 to 120 them d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ng term effects: learning and physical, visual, and speech disabiliti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Child Death Due to Abuse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09480" y="1218960"/>
            <a:ext cx="83455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 abuse is the most common cause of death to children committed by their own par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children are under the age of four die from child abuse and neglect than from automobile accidents, falls, fires, drowning, suffocation, and choking on fo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onger is child abuse considered a family affa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estimated 1,530 children die of child abuse and neglect each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ren aged three and younger are the most frequent victi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Different Types of Child/Family death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ticide: felonious destruction of a fet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atricide: killing of a brother or sis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icide : killing of children by par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perpetrators are in their mid-20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wo-adult families, with male pres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many as 50 percent are marri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Child Death Review Team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09480" y="1218960"/>
            <a:ext cx="83455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than four children per day die as the result of abuse and neglect in the United Sta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earch shows that as many as 50 percent of child deaths listed as “undetermined” or “accidents” are actually caused by child ab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 death review teams have been formed to address the concern that child abuse fatalities were not properly investigat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iew teams include: pediatrician, medical examiner, prosecuting attorney, social worker, mental health professional, police officer, nurse, educator, and paramed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3343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Sexual Abuse Introduction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09480" y="1142640"/>
            <a:ext cx="8345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at controversy, was the fastest growing form of reported child abuse at one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xual abuse is an issue of power and control, not love and intimac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ed now less of a concern than physical ab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school age children are being victimized more frequently than 20 years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 78,000 cases sustained in 2006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rls more likely than boys to be sexually ab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s 12- 15 year olds in the most d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gal procedures for validating an episode make it very difficulty for prosec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Forms of Sexual Abuse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sexual assault on a child is any forced, exploitive, or coercive sexual contact or experience with a ch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utes vary widely, three elements requir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ignificant older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erson who engaged in sexual 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ity involving someone who is legally a 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Forms of Sexual Assault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09480" y="12949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les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yeur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hibition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nogra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ced prostitu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es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Introduction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09480" y="121896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t agencies can become involved in cases where abuse of neglect of a child is suspec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cial services agencies investigate in order to provide evid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ice officers also conduct investigations on suspected abuse and neglect against childr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ice must determine if probable cause exis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e a crime has been commit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y the offender for possible prosec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Symptoms of Sexual Abuse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1066320"/>
            <a:ext cx="8345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ports of sexual abuse have declined in recent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develop behavior changes such as sexual acting out; excessive masturbation, and unusual interest in or avoidance of all things sexu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develop sleep problems or nightmar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ression, aggressiveness, suicidal behavior, refusing school, and headac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sive reactions to particular foods, soreness in the genit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 Indic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havioral Indic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etake Indicato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Sexual Abuse Typologie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09480" y="1142640"/>
            <a:ext cx="8345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-5544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gagement ph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ession ph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ression ph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xual abuse accommodation syndrom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4920" indent="-484920">
              <a:spcBef>
                <a:spcPts val="601"/>
              </a:spcBef>
              <a:buClr>
                <a:srgbClr val="ff0000"/>
              </a:buClr>
              <a:buSzPct val="90000"/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recy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4920" indent="-484920">
              <a:spcBef>
                <a:spcPts val="601"/>
              </a:spcBef>
              <a:buClr>
                <a:srgbClr val="ff0000"/>
              </a:buClr>
              <a:buSzPct val="90000"/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lplessnes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4920" indent="-484920">
              <a:spcBef>
                <a:spcPts val="601"/>
              </a:spcBef>
              <a:buClr>
                <a:srgbClr val="ff0000"/>
              </a:buClr>
              <a:buSzPct val="90000"/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rapment and accommodatio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4920" indent="-484920">
              <a:spcBef>
                <a:spcPts val="601"/>
              </a:spcBef>
              <a:buClr>
                <a:srgbClr val="ff0000"/>
              </a:buClr>
              <a:buSzPct val="90000"/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ayed, conflicted and unconvincing disclosure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4920" indent="-484920">
              <a:spcBef>
                <a:spcPts val="601"/>
              </a:spcBef>
              <a:buClr>
                <a:srgbClr val="ff0000"/>
              </a:buClr>
              <a:buSzPct val="90000"/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The Role of Police in Child Abuse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rrounded by controver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ized police units developed by the 1970’s to investigate and prosecute physical and sexual abuse to child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disciplinary teams and interagency cooperation between police and child protective agencies is the current tren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Interviewing children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09480" y="990720"/>
            <a:ext cx="83455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rts are afforded wide discretion in modify trial practices to accommodate the special needs of child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ildren’s competency and credibility are of concer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spcBef>
                <a:spcPts val="601"/>
              </a:spcBef>
              <a:buClr>
                <a:srgbClr val="ff0000"/>
              </a:buClr>
              <a:buSzPct val="55000"/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etency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means that a person is fit to stand trial and to take the oa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spcBef>
                <a:spcPts val="601"/>
              </a:spcBef>
              <a:buClr>
                <a:srgbClr val="ff0000"/>
              </a:buClr>
              <a:buSzPct val="55000"/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redibility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fer to whether or not the child witness can be believ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deotaping Child Intervie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ensic Intervie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Four critical steps for child abuse and neglect investigations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09480" y="1371600"/>
            <a:ext cx="8345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spcBef>
                <a:spcPts val="601"/>
              </a:spcBef>
              <a:buClr>
                <a:srgbClr val="3333cc"/>
              </a:buClr>
              <a:buSzPct val="6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 to the source of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 information about the inju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duct intervie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04000" indent="-504000">
              <a:spcBef>
                <a:spcPts val="601"/>
              </a:spcBef>
              <a:buClr>
                <a:srgbClr val="3333cc"/>
              </a:buClr>
              <a:buSzPct val="6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 records and 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k prior reports on ab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view medical records from doctor, clinic, or hospi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04000" indent="-504000">
              <a:spcBef>
                <a:spcPts val="601"/>
              </a:spcBef>
              <a:buClr>
                <a:srgbClr val="3333cc"/>
              </a:buClr>
              <a:buSzPct val="6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view all persons who had access to 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ways interview the caretakers separat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04000" indent="-504000">
              <a:spcBef>
                <a:spcPts val="601"/>
              </a:spcBef>
              <a:buClr>
                <a:srgbClr val="3333cc"/>
              </a:buClr>
              <a:buSzPct val="6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 to the sc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duct thorough investigation of the sce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 evid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Children with Disabilitie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09480" y="1142640"/>
            <a:ext cx="8345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ildren with disabilities are at a significant increased risk for neglect and abuse of all for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study found that hospitalized children with disabilities were twice as prevalent among maltreatment than those without disabili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ildren with more than one disability were at even higher risk of physical and sexual ab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children are abused and neglected at a rate of three times that of children who do not have disabiliti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Introduction to Physical Abuse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09480" y="1066320"/>
            <a:ext cx="8345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iminal prosecution of physical abuse is more common than the prosecution of emotional maltreat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ine between accident and intentional harm can be blurry, evidence becomes extremely import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agency and or interdisciplinary team approach is helpful in gathering information from various sour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llegation of abuse in not confirmation that a child has been victimiz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43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Age Dating of Bruises 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3455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volves noting the color of bruising present and documenting this informa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can one determine the age of a brui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Bright R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0 to 2 days old inju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3a3e0"/>
                </a:solidFill>
                <a:latin typeface="Times New Roman"/>
              </a:rPr>
              <a:t>Bluish or Purp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2 to 5 days o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Gree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5 to 7 days o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Yel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7 to 10 days o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Brow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0 to 14 days o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evidence after 2 to 4 week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Pattern Injury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09480" y="1066320"/>
            <a:ext cx="8345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on household items are frequently used as weapons against children in abusive situ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 inclu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irbrushes, flyswatters, hangers, belts, and baseball ba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st common dangerous weapon remains the ha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k for patterns on the locations that have been identified as suspicio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uise patterns on the child may help to identify and retrieve the weapon as evid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436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Injuries to the Head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09480" y="1142640"/>
            <a:ext cx="8345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ants rarely suffer head injuries that are an accid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 of intentional injury inclu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morrhaging beneath the scalp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inal hemorrhage, shaken baby syndrom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jury from multiple slapping or hitting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plash (without automobile accident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bruise to the ea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uliflower” ea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black or swollen ey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Burn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09480" y="1066320"/>
            <a:ext cx="8345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ntional burn injuries often go unnotic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ren will suffer a significant burn in less time than an ad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up approximately 10 percent of child abuse cases and 10 percent of hospital admissions of children to burn uni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cing a child under hot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licting cigarette or lighter bur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shing/holding on a heating or electrical u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cing child in oven or microw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8T19:58:21Z</dcterms:created>
  <dc:creator>MDC</dc:creator>
  <dc:description/>
  <dc:language>en-US</dc:language>
  <cp:lastModifiedBy>Michelle Churma</cp:lastModifiedBy>
  <dcterms:modified xsi:type="dcterms:W3CDTF">2009-08-04T15:25:35Z</dcterms:modified>
  <cp:revision>66</cp:revision>
  <dc:subject/>
  <dc:title>Slide 1</dc:title>
</cp:coreProperties>
</file>